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90A-A9B8-405D-AE78-8DBA08EE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FA1-F667-4B92-835D-5373A2B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B1E-561B-47CB-9FBD-CBADCCE1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AF3-162F-4295-B0B1-40C6FC29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ED5-814C-4E69-93FA-2612A7B8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AF1-D2C3-46D8-8CEF-BFC4A56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96B-2875-412B-B4DC-F702597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2AE-1C77-470D-88F8-33045B85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106-8045-43CC-9199-A93A714A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FFB-C5A6-4399-8EB0-5ABA5D1B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FF2-A901-4B96-B285-52DFCA0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8C3-C06E-46E7-9740-E2696B2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78B4-7BB0-4453-AFBD-F46347CF2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28:34Z</dcterms:created>
  <dc:creator>Grupo Editorial</dc:creator>
  <dc:description/>
  <dc:language>en-US</dc:language>
  <cp:lastModifiedBy>Grupo Editorial</cp:lastModifiedBy>
  <dcterms:modified xsi:type="dcterms:W3CDTF">2001-11-13T10:30:46Z</dcterms:modified>
  <cp:revision>1</cp:revision>
  <dc:subject/>
  <dc:title>Sin título de diapositiva</dc:title>
</cp:coreProperties>
</file>